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2AE-8866-4B55-B7BC-F85221ED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E1A-5EBB-4556-A769-131FF4D4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906-5AE7-4019-9341-7F928053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F66-954C-4473-87FF-B880033D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B03C-61A6-4863-AA8C-E859C92D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43F8-13D5-4725-AA38-D15978CA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BC4E-B073-46D9-9F70-74A24A8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268-0496-49E4-A9CC-F573192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AEB9-3962-4AAF-A225-787366ED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8F92-602F-40AD-B5AE-55AC7D61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9800-076B-4D04-8AEB-B7B53E53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6FA-C2D0-4ED1-A13E-F7E10F1A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565F-2BDA-4EC8-97B3-51A0F44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2A65-3135-4747-B2C5-BCF5B96E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B7CB-D92A-4E96-99F0-8488463B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852E-0CD3-4F6B-BE01-57EAD771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F15-3AF6-4559-B2C2-1ADD3614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2846-4E6D-44FE-939B-0B8E4B25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BA95-71D3-493A-9CF0-3512A344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D857-3BBF-4220-9B1A-7032A53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35BA-1CDF-46FB-8057-D71824FC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30F4-9DC3-40DC-A4A7-91DC28F5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16A-B9C9-42E1-AC4C-50ED5174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9675-A4C3-4EC6-B507-FB661D7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D442-AAA2-4EEB-9ADC-36E40123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7F10-B5CE-448D-BB4D-ACF3B840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3AD9-2F8A-4D98-A55F-987E25E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E7D9-C561-4ACF-A337-074A3EB5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4E9F-EF88-4692-83FF-D8974F76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C90A-B430-40E6-A739-A4B9D7BB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9C3B-AFAE-4454-9F5F-92F3E47A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C4CA-6BEF-4E05-86D3-04B369B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CF38-169A-4F1A-9E04-6C70C01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142-7F77-4A3D-96D6-723F6BD8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37F3-5F82-46F6-96CC-DF218E8E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BED5-D5BC-43F3-B4AC-CA6A022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74B4-DADB-48B1-9ADC-618E24A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8498-3FDF-4114-A7C3-341F9AD0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9504-91F8-449B-9FF9-AA8F6877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4153-5F07-4A5A-86E4-DAE75F79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E152-6453-457A-82EA-C4DF791D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97A6-4B3B-435F-95EC-98704A80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0B6F-2E21-47F6-BA1C-892C372F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05F-B941-46E3-BD71-B5737B1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037-F434-427A-BAE9-6D59ADD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882-5A34-4A4F-AD5D-E8711A3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D41-819C-4F7C-85B1-77A8A6A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FD3-3233-4765-83F1-D8D21B8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BDF6-9B32-4B55-8B45-21C00AC764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CCF5-B4CE-41D3-BF73-20BFD6CB0E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51FC-FD65-4BDA-ACFC-8E9AFEAA212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A81A-C1D1-44C7-8B99-46AA6F3459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 rot="5400000">
            <a:off x="4518000" y="3006000"/>
            <a:ext cx="6629400" cy="61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体悟亲情 感恩父母”主题班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倡议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要体谅父母，孝敬父母，从小事做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帮助父母刷一次碗，洗一件衣服，扫一次地，做一些力所能及的事。”以减轻父母的辛苦，回报父母的深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倡议人：初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班全体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403280" y="1773360"/>
            <a:ext cx="6553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听听老师的话吧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~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幼圆"/>
              </a:rPr>
              <a:t>深圳清华实验学校  初一（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幼圆"/>
              </a:rPr>
              <a:t>5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幼圆"/>
              </a:rPr>
              <a:t>）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796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策划 ：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肖作坤老师（班主任）马国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主持人：</a:t>
            </a:r>
            <a:r>
              <a:rPr b="0" lang="zh-CN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马国栋     洪凝影    蔡丽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 rot="20121600">
            <a:off x="0" y="1915920"/>
            <a:ext cx="95727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谢各位家长从百忙之中来参加我们的家长会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0" name=""/>
          <p:cNvSpPr txBox="1"/>
          <p:nvPr/>
        </p:nvSpPr>
        <p:spPr>
          <a:xfrm rot="20959800">
            <a:off x="4284720" y="3860640"/>
            <a:ext cx="3384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!~!~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403280" y="5805360"/>
            <a:ext cx="554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都是擒敌小高手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24000" y="2421000"/>
            <a:ext cx="450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家长发言</a:t>
            </a: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217080" cy="6913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203640" y="620640"/>
            <a:ext cx="373356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小品时间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140360" y="3716280"/>
            <a:ext cx="25923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0" y="765000"/>
            <a:ext cx="4788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朗诵表演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4697280"/>
            <a:ext cx="381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表演者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: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陈柏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      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黄嘉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3763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0.1655 L 0.28559 -0.16783 E">
                                      <p:cBhvr>
                                        <p:cTn id="6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4002120"/>
            <a:ext cx="4284720" cy="2855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 rot="5400000">
            <a:off x="4851000" y="2816280"/>
            <a:ext cx="6858000" cy="122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太极扇表演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~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755640" y="1916280"/>
            <a:ext cx="3772080" cy="18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互动时间</a:t>
            </a: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1692360" y="404640"/>
            <a:ext cx="6192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手语歌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&lt;&lt;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的心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&gt;&gt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表演者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全体同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35185 L -1.11111E-006 0.68519 E">
                                      <p:cBhvr>
                                        <p:cTn id="94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24000" y="981000"/>
            <a:ext cx="46656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倡议书</a:t>
            </a: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19640" y="4653000"/>
            <a:ext cx="50400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宣读者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乐川班长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0:43:36Z</dcterms:created>
  <dc:creator>书利华教育网 www.ShuLiHua.Net</dc:creator>
  <dc:description>书利华教育网 www.ShuLiHua.Net</dc:description>
  <cp:keywords>书利华教育网 www.ShuLiHua.Net</cp:keywords>
  <dc:language>en-US</dc:language>
  <cp:lastModifiedBy>User</cp:lastModifiedBy>
  <dcterms:modified xsi:type="dcterms:W3CDTF">2013-04-13T17:55:52Z</dcterms:modified>
  <cp:revision>10</cp:revision>
  <dc:subject>书利华教育网 www.ShuLiHua.Net</dc:subject>
  <dc:title>书利华教育网 www.ShuLiHua.Net</dc:title>
</cp:coreProperties>
</file>